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E0DE-DF4C-4E13-8A2E-82AE9F41B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C3D0-D264-4DCD-A58A-5ECCBFF8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5FD4-28A9-492F-8C94-ECD47728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2650-72D7-4D31-9FF3-A57D4401A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75BB-2193-413E-8831-941C6D68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1B14-5D3F-4377-A3C6-963E352A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0542-0AB8-463E-98AF-B9065A30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C9C2-2659-45A0-A68A-F8C5802F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2F5E-DC20-499A-BD04-2B97B530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0C82-642D-4DC9-9780-BE0B224C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0AD8-F35B-4FA6-8AD5-09713AD7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DAF7-0D81-4717-81CF-24D5A0B7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9BA3-5859-4CEC-ABF6-0B937C9A3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66680" y="1371600"/>
            <a:ext cx="716292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Soil Analys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6840" y="1128600"/>
            <a:ext cx="3886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metal spatula to dip into and select a sample of evid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ce sample on round paper h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ce paper holder with soil sample under microsco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ce particle size, shape and type of parti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may be organic (from living material) as well as mineral part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 material clumpy or loose particl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800600" y="228600"/>
            <a:ext cx="3123720" cy="3084840"/>
            <a:chOff x="4800600" y="228600"/>
            <a:chExt cx="3123720" cy="308484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4800600" y="228600"/>
              <a:ext cx="2741400" cy="23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4864320" y="2670840"/>
              <a:ext cx="306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mple with mineral content on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029200" y="3429000"/>
            <a:ext cx="3200400" cy="3309480"/>
            <a:chOff x="5029200" y="3429000"/>
            <a:chExt cx="3200400" cy="3309480"/>
          </a:xfrm>
        </p:grpSpPr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5029200" y="3429000"/>
              <a:ext cx="2664000" cy="26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5181480" y="6095880"/>
              <a:ext cx="304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mple with mainly organic cont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838080" y="4572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ining Soil Ev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914400" y="1722600"/>
            <a:ext cx="2970360" cy="563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743200" y="2789280"/>
            <a:ext cx="9507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cument Evi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your journal draw several particles representative of those you see under the micro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8098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2:17:59Z</dcterms:created>
  <dc:creator>Greg Neff</dc:creator>
  <dc:description/>
  <dc:language>en-US</dc:language>
  <cp:lastModifiedBy>CAC</cp:lastModifiedBy>
  <dcterms:modified xsi:type="dcterms:W3CDTF">2008-03-05T10:05:47Z</dcterms:modified>
  <cp:revision>3</cp:revision>
  <dc:subject/>
  <dc:title>PowerPoint Presentation</dc:title>
</cp:coreProperties>
</file>